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A2E-5F45-4452-90CF-15669665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3DC-B53F-44DE-9F69-8D8590D8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70A-2013-4D72-9F80-F4ACA85A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284-20BF-4C0F-A750-1A9802D4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3C5-9322-4B40-BA15-668DF2BB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988-2530-49BD-9047-265B6BBA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EF4-7A8F-47B4-AFEE-8EE2A40A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DFC-06EE-4068-B370-ADE8AC15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FC8-446F-41F3-B491-7E7D1DCE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070-2B7F-45D7-A17F-3C73691A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740-5D3A-4B30-8B16-20EB8FC0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0F0-C3E6-4EEB-B0AC-02D09827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F3FB-D53B-4473-ABC1-717B97466B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Height VS Weight</a:t>
            </a:r>
            <a:r>
              <a:rPr b="0" lang="en-US" sz="4400" spc="-1" strike="noStrike">
                <a:solidFill>
                  <a:srgbClr val="ffff99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risten Vag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onclu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 got everyone that I wanted to test done and recorded all of their data. I’ve also got all research done and work cited fin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robl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oes Height have an effect on how much you are able to lift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Hypothesi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 believe that the taller people will be able to lift more than the shorter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ackground Inform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 real life taller guys are built stronger than smaller shorter guys in some cases. Shorter guys are known to have great muscle mass and can out lift bigger guys. I still believe that the taller guys will lift more than the shorter ones in the Junior High level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Materia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aper &amp; P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3 short guys: Clayton, Erik,  Tris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3 tall guys: Zane, Brayden, Trist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ench Pr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ather People and Mate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st peop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ecord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raph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res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Resul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Impact"/>
              </a:rPr>
              <a:t>Bench Press: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Impact"/>
              </a:rPr>
              <a:t>Tall:</a:t>
            </a:r>
            <a:r>
              <a:rPr b="1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Impact"/>
              </a:rPr>
              <a:t>Sh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Zane- 135                5’10”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rik- 140               5’6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ristin- 115             5’9”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ayton- 65           5’5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rayden- 105          5’11”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risten- 105          5’7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ime Sp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’ve spent about two hours to test people and a day to work on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ossible Clause of Err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ome people might of not of been feeling good one day or were sore or growing pa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4:50:12Z</dcterms:created>
  <dc:creator>USD376</dc:creator>
  <dc:description/>
  <dc:language>en-US</dc:language>
  <cp:lastModifiedBy>USD376</cp:lastModifiedBy>
  <dcterms:modified xsi:type="dcterms:W3CDTF">2012-03-19T14:58:53Z</dcterms:modified>
  <cp:revision>2</cp:revision>
  <dc:subject/>
  <dc:title>Height VS Weight </dc:title>
</cp:coreProperties>
</file>